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7.wmf" ContentType="image/x-wmf"/>
  <Override PartName="/ppt/media/image18.wmf" ContentType="image/x-wmf"/>
  <Override PartName="/ppt/media/image2.jpeg" ContentType="image/jpeg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7.wmf" ContentType="image/x-wmf"/>
  <Override PartName="/ppt/media/image30.wmf" ContentType="image/x-wmf"/>
  <Override PartName="/ppt/media/image1.png" ContentType="image/png"/>
  <Override PartName="/ppt/media/image29.wmf" ContentType="image/x-wmf"/>
  <Override PartName="/ppt/media/image66.wmf" ContentType="image/x-wmf"/>
  <Override PartName="/ppt/media/image26.wmf" ContentType="image/x-wmf"/>
  <Override PartName="/ppt/media/image63.wmf" ContentType="image/x-wmf"/>
  <Override PartName="/ppt/media/image65.wmf" ContentType="image/x-wmf"/>
  <Override PartName="/ppt/media/image28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3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3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4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1CBB-33AC-4888-9FCD-3CC2AB1E45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A94-892F-4B75-8438-937644DB56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312-504C-4EF7-BE90-32BC576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5A9-2C50-4960-83E2-0A9F884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A68-0207-47B7-B67C-0C208128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DC9-DFA1-483C-9DE2-205F2798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7B7-3076-414C-8BCC-C2D2181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65C-8A64-45BC-B898-1FAEA3D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D8D-950A-48DB-9BD7-0C4141B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74C-8D03-4A16-8E6B-CF9CBBA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4A2-7E2D-465C-B0B8-42EC64D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091-6881-4D08-9E15-362267F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B5D-5782-4534-8555-B9DF35E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566-0353-4E0D-AE8F-D9C0C2C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C13-F480-492D-B675-4D7FF8487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44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45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50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51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52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53.wmf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54.wmf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2.wmf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4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66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67.wm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771640" y="35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单调性的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9" name="Object 2"/>
          <p:cNvGraphicFramePr/>
          <p:nvPr/>
        </p:nvGraphicFramePr>
        <p:xfrm>
          <a:off x="1042920" y="765000"/>
          <a:ext cx="6127920" cy="100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765000"/>
                    <a:ext cx="61279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5"/>
          <p:cNvSpPr/>
          <p:nvPr/>
        </p:nvSpPr>
        <p:spPr>
          <a:xfrm>
            <a:off x="760320" y="14270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58920" y="3500280"/>
          <a:ext cx="5981760" cy="18320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  <a:gridCol w="1028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Line 36"/>
          <p:cNvSpPr/>
          <p:nvPr/>
        </p:nvSpPr>
        <p:spPr>
          <a:xfrm>
            <a:off x="4635360" y="4911840"/>
            <a:ext cx="2286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 flipV="1">
            <a:off x="6512040" y="4897080"/>
            <a:ext cx="342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 flipV="1">
            <a:off x="2612880" y="4871880"/>
            <a:ext cx="34308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41"/>
          <p:cNvGraphicFramePr/>
          <p:nvPr/>
        </p:nvGraphicFramePr>
        <p:xfrm>
          <a:off x="1535040" y="2565360"/>
          <a:ext cx="4010040" cy="46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Object 4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35040" y="2565360"/>
                    <a:ext cx="40100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8" name="组合 42"/>
          <p:cNvGrpSpPr/>
          <p:nvPr/>
        </p:nvGrpSpPr>
        <p:grpSpPr>
          <a:xfrm>
            <a:off x="1332000" y="3587760"/>
            <a:ext cx="5904000" cy="1601640"/>
            <a:chOff x="1332000" y="3587760"/>
            <a:chExt cx="5904000" cy="1601640"/>
          </a:xfrm>
        </p:grpSpPr>
        <p:graphicFrame>
          <p:nvGraphicFramePr>
            <p:cNvPr id="309" name="Object 42"/>
            <p:cNvGraphicFramePr/>
            <p:nvPr/>
          </p:nvGraphicFramePr>
          <p:xfrm>
            <a:off x="2268000" y="3587760"/>
            <a:ext cx="936000" cy="450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0" name="Object 4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8000" y="3587760"/>
                      <a:ext cx="936000" cy="45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43"/>
            <p:cNvGraphicFramePr/>
            <p:nvPr/>
          </p:nvGraphicFramePr>
          <p:xfrm>
            <a:off x="6294240" y="3594600"/>
            <a:ext cx="941760" cy="380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2" name="Object 4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294240" y="3594600"/>
                      <a:ext cx="941760" cy="38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44"/>
            <p:cNvGraphicFramePr/>
            <p:nvPr/>
          </p:nvGraphicFramePr>
          <p:xfrm>
            <a:off x="1332000" y="4156560"/>
            <a:ext cx="727200" cy="410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14" name="Object 4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332000" y="4156560"/>
                      <a:ext cx="727200" cy="41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Object 45"/>
            <p:cNvGraphicFramePr/>
            <p:nvPr/>
          </p:nvGraphicFramePr>
          <p:xfrm>
            <a:off x="1390680" y="4746960"/>
            <a:ext cx="732960" cy="442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16" name="Object 45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390680" y="4746960"/>
                      <a:ext cx="73296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7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7"/>
          <p:cNvGraphicFramePr/>
          <p:nvPr/>
        </p:nvGraphicFramePr>
        <p:xfrm>
          <a:off x="900000" y="5516640"/>
          <a:ext cx="7632720" cy="461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9" name="Object 4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00000" y="5516640"/>
                    <a:ext cx="7632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321" name="Picture 49" descr="">
              <a:hlinkClick r:id="" action="ppaction://hlinkshowjump?jump=nextslide"/>
            </p:cNvPr>
            <p:cNvPicPr/>
            <p:nvPr/>
          </p:nvPicPr>
          <p:blipFill>
            <a:blip r:embed="rId20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0" descr="">
              <a:hlinkClick r:id="" action="ppaction://hlinkshowjump?jump=previousslide"/>
            </p:cNvPr>
            <p:cNvPicPr/>
            <p:nvPr/>
          </p:nvPicPr>
          <p:blipFill>
            <a:blip r:embed="rId21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1" descr="">
              <a:hlinkClick r:id="" action="ppaction://hlinkshowjump?jump=endshow"/>
            </p:cNvPr>
            <p:cNvPicPr/>
            <p:nvPr/>
          </p:nvPicPr>
          <p:blipFill>
            <a:blip r:embed="rId22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2" descr="">
              <a:hlinkClick r:id="" action="ppaction://hlinkshowjump?jump=previousslide"/>
            </p:cNvPr>
            <p:cNvPicPr/>
            <p:nvPr/>
          </p:nvPicPr>
          <p:blipFill>
            <a:blip r:embed="rId23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Rectangle 53"/>
          <p:cNvSpPr/>
          <p:nvPr/>
        </p:nvSpPr>
        <p:spPr>
          <a:xfrm>
            <a:off x="1619280" y="1484280"/>
            <a:ext cx="46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函数的定义域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-∞, +∞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34"/>
          <p:cNvGraphicFramePr/>
          <p:nvPr/>
        </p:nvGraphicFramePr>
        <p:xfrm>
          <a:off x="2124000" y="1989000"/>
          <a:ext cx="4824360" cy="551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8" name="Object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24000" y="1989000"/>
                    <a:ext cx="482436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36"/>
          <p:cNvGraphicFramePr/>
          <p:nvPr/>
        </p:nvGraphicFramePr>
        <p:xfrm>
          <a:off x="1403280" y="3068640"/>
          <a:ext cx="6337440" cy="477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1" name="Object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03280" y="3068640"/>
                    <a:ext cx="6337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3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5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356" name="Picture 4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0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1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2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585720" y="1442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22480" y="3327480"/>
          <a:ext cx="5410080" cy="1555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Object 25"/>
          <p:cNvGraphicFramePr/>
          <p:nvPr/>
        </p:nvGraphicFramePr>
        <p:xfrm>
          <a:off x="1476360" y="3429000"/>
          <a:ext cx="30960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429000"/>
                    <a:ext cx="309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Line 29"/>
          <p:cNvSpPr/>
          <p:nvPr/>
        </p:nvSpPr>
        <p:spPr>
          <a:xfrm>
            <a:off x="3049560" y="4538520"/>
            <a:ext cx="29520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0"/>
          <p:cNvSpPr/>
          <p:nvPr/>
        </p:nvSpPr>
        <p:spPr>
          <a:xfrm flipV="1">
            <a:off x="5637240" y="4459320"/>
            <a:ext cx="2952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1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9"/>
          <p:cNvGraphicFramePr/>
          <p:nvPr/>
        </p:nvGraphicFramePr>
        <p:xfrm>
          <a:off x="1187280" y="692280"/>
          <a:ext cx="583272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692280"/>
                    <a:ext cx="5832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3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31"/>
          <p:cNvGraphicFramePr/>
          <p:nvPr/>
        </p:nvGraphicFramePr>
        <p:xfrm>
          <a:off x="1835280" y="1916280"/>
          <a:ext cx="40320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3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35280" y="1916280"/>
                    <a:ext cx="40320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35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33"/>
          <p:cNvGraphicFramePr/>
          <p:nvPr/>
        </p:nvGraphicFramePr>
        <p:xfrm>
          <a:off x="1332000" y="3909960"/>
          <a:ext cx="679320" cy="385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3909960"/>
                    <a:ext cx="6793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3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35"/>
          <p:cNvGraphicFramePr/>
          <p:nvPr/>
        </p:nvGraphicFramePr>
        <p:xfrm>
          <a:off x="1320840" y="4437000"/>
          <a:ext cx="692280" cy="419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9" name="Object 3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20840" y="4437000"/>
                    <a:ext cx="692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39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37"/>
          <p:cNvGraphicFramePr/>
          <p:nvPr/>
        </p:nvGraphicFramePr>
        <p:xfrm>
          <a:off x="2733840" y="3435480"/>
          <a:ext cx="901440" cy="401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82" name="Object 3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33840" y="3435480"/>
                    <a:ext cx="9014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41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39"/>
          <p:cNvGraphicFramePr/>
          <p:nvPr/>
        </p:nvGraphicFramePr>
        <p:xfrm>
          <a:off x="5467320" y="3395520"/>
          <a:ext cx="806400" cy="378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5" name="Object 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67320" y="3395520"/>
                    <a:ext cx="806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40"/>
          <p:cNvGraphicFramePr/>
          <p:nvPr/>
        </p:nvGraphicFramePr>
        <p:xfrm>
          <a:off x="755640" y="5084640"/>
          <a:ext cx="7391520" cy="520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87" name="Object 4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5640" y="5084640"/>
                    <a:ext cx="7391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Group 41"/>
          <p:cNvGrpSpPr/>
          <p:nvPr/>
        </p:nvGrpSpPr>
        <p:grpSpPr>
          <a:xfrm>
            <a:off x="4738680" y="5954760"/>
            <a:ext cx="3889440" cy="489960"/>
            <a:chOff x="4738680" y="5954760"/>
            <a:chExt cx="3889440" cy="489960"/>
          </a:xfrm>
        </p:grpSpPr>
        <p:pic>
          <p:nvPicPr>
            <p:cNvPr id="389" name="Picture 46" descr="">
              <a:hlinkClick r:id="" action="ppaction://hlinkshowjump?jump=nextslide"/>
            </p:cNvPr>
            <p:cNvPicPr/>
            <p:nvPr/>
          </p:nvPicPr>
          <p:blipFill>
            <a:blip r:embed="rId26"/>
            <a:stretch/>
          </p:blipFill>
          <p:spPr>
            <a:xfrm>
              <a:off x="5707080" y="596376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7" descr="">
              <a:hlinkClick r:id="" action="ppaction://hlinkshowjump?jump=previousslide"/>
            </p:cNvPr>
            <p:cNvPicPr/>
            <p:nvPr/>
          </p:nvPicPr>
          <p:blipFill>
            <a:blip r:embed="rId27"/>
            <a:stretch/>
          </p:blipFill>
          <p:spPr>
            <a:xfrm>
              <a:off x="6642000" y="597024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8" descr="">
              <a:hlinkClick r:id="" action="ppaction://hlinkshowjump?jump=endshow"/>
            </p:cNvPr>
            <p:cNvPicPr/>
            <p:nvPr/>
          </p:nvPicPr>
          <p:blipFill>
            <a:blip r:embed="rId28"/>
            <a:stretch/>
          </p:blipFill>
          <p:spPr>
            <a:xfrm>
              <a:off x="7607160" y="595476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9" descr="">
              <a:hlinkClick r:id="" action="ppaction://hlinkshowjump?jump=previousslide"/>
            </p:cNvPr>
            <p:cNvPicPr/>
            <p:nvPr/>
          </p:nvPicPr>
          <p:blipFill>
            <a:blip r:embed="rId29"/>
            <a:stretch/>
          </p:blipFill>
          <p:spPr>
            <a:xfrm>
              <a:off x="4738680" y="60051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93" name="Object 46"/>
          <p:cNvGraphicFramePr/>
          <p:nvPr/>
        </p:nvGraphicFramePr>
        <p:xfrm>
          <a:off x="1476360" y="1413000"/>
          <a:ext cx="4186080" cy="4712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94" name="Object 4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476360" y="1413000"/>
                    <a:ext cx="41860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"/>
          <p:cNvSpPr/>
          <p:nvPr/>
        </p:nvSpPr>
        <p:spPr>
          <a:xfrm>
            <a:off x="717480" y="68436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828800" y="65484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定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6410160" y="67716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单调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760320" y="14270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254240" y="3505320"/>
          <a:ext cx="5943600" cy="18316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0360"/>
                <a:gridCol w="990720"/>
                <a:gridCol w="9907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Line 36"/>
          <p:cNvSpPr/>
          <p:nvPr/>
        </p:nvSpPr>
        <p:spPr>
          <a:xfrm>
            <a:off x="4635360" y="4911840"/>
            <a:ext cx="2286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7"/>
          <p:cNvSpPr/>
          <p:nvPr/>
        </p:nvSpPr>
        <p:spPr>
          <a:xfrm flipV="1">
            <a:off x="6512040" y="4897080"/>
            <a:ext cx="342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V="1">
            <a:off x="2612880" y="4871880"/>
            <a:ext cx="34308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39"/>
          <p:cNvGraphicFramePr/>
          <p:nvPr/>
        </p:nvGraphicFramePr>
        <p:xfrm>
          <a:off x="3419640" y="692280"/>
          <a:ext cx="31194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6" name="Object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692280"/>
                    <a:ext cx="3119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40"/>
          <p:cNvGraphicFramePr/>
          <p:nvPr/>
        </p:nvGraphicFramePr>
        <p:xfrm>
          <a:off x="1666800" y="2090880"/>
          <a:ext cx="528660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8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66800" y="2090880"/>
                    <a:ext cx="52866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41"/>
          <p:cNvGraphicFramePr/>
          <p:nvPr/>
        </p:nvGraphicFramePr>
        <p:xfrm>
          <a:off x="1692360" y="2708280"/>
          <a:ext cx="4182840" cy="5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0" name="Object 4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2708280"/>
                    <a:ext cx="41828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2"/>
          <p:cNvGraphicFramePr/>
          <p:nvPr/>
        </p:nvGraphicFramePr>
        <p:xfrm>
          <a:off x="2424240" y="3662280"/>
          <a:ext cx="779400" cy="374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2" name="Object 4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24240" y="3662280"/>
                    <a:ext cx="779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3"/>
          <p:cNvGraphicFramePr/>
          <p:nvPr/>
        </p:nvGraphicFramePr>
        <p:xfrm>
          <a:off x="6303960" y="3594240"/>
          <a:ext cx="820800" cy="411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4" name="Object 4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03960" y="3594240"/>
                    <a:ext cx="820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44"/>
          <p:cNvGraphicFramePr/>
          <p:nvPr/>
        </p:nvGraphicFramePr>
        <p:xfrm>
          <a:off x="1434960" y="4214880"/>
          <a:ext cx="760680" cy="43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6" name="Object 4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34960" y="4214880"/>
                    <a:ext cx="760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5"/>
          <p:cNvGraphicFramePr/>
          <p:nvPr/>
        </p:nvGraphicFramePr>
        <p:xfrm>
          <a:off x="1390680" y="4746600"/>
          <a:ext cx="733320" cy="442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8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90680" y="4746600"/>
                    <a:ext cx="733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7"/>
          <p:cNvGraphicFramePr/>
          <p:nvPr/>
        </p:nvGraphicFramePr>
        <p:xfrm>
          <a:off x="912960" y="5516640"/>
          <a:ext cx="7619760" cy="463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4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2960" y="5516640"/>
                    <a:ext cx="76197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443" name="Picture 49" descr="">
              <a:hlinkClick r:id="" action="ppaction://hlinkshowjump?jump=nextslide"/>
            </p:cNvPr>
            <p:cNvPicPr/>
            <p:nvPr/>
          </p:nvPicPr>
          <p:blipFill>
            <a:blip r:embed="rId22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0" descr="">
              <a:hlinkClick r:id="" action="ppaction://hlinkshowjump?jump=previousslide"/>
            </p:cNvPr>
            <p:cNvPicPr/>
            <p:nvPr/>
          </p:nvPicPr>
          <p:blipFill>
            <a:blip r:embed="rId23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51" descr="">
              <a:hlinkClick r:id="" action="ppaction://hlinkshowjump?jump=endshow"/>
            </p:cNvPr>
            <p:cNvPicPr/>
            <p:nvPr/>
          </p:nvPicPr>
          <p:blipFill>
            <a:blip r:embed="rId24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52" descr="">
              <a:hlinkClick r:id="" action="ppaction://hlinkshowjump?jump=previousslide"/>
            </p:cNvPr>
            <p:cNvPicPr/>
            <p:nvPr/>
          </p:nvPicPr>
          <p:blipFill>
            <a:blip r:embed="rId25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Rectangle 53"/>
          <p:cNvSpPr/>
          <p:nvPr/>
        </p:nvSpPr>
        <p:spPr>
          <a:xfrm>
            <a:off x="1617840" y="1517760"/>
            <a:ext cx="46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函数的定义域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-∞, +∞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3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6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472" name="Picture 4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0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51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52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6" name="Object 2"/>
          <p:cNvGraphicFramePr/>
          <p:nvPr/>
        </p:nvGraphicFramePr>
        <p:xfrm>
          <a:off x="777960" y="784080"/>
          <a:ext cx="596736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7960" y="784080"/>
                    <a:ext cx="5967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"/>
          <p:cNvGraphicFramePr/>
          <p:nvPr/>
        </p:nvGraphicFramePr>
        <p:xfrm>
          <a:off x="1292400" y="1633680"/>
          <a:ext cx="4397040" cy="62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92400" y="1633680"/>
                    <a:ext cx="43970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4"/>
          <p:cNvGraphicFramePr/>
          <p:nvPr/>
        </p:nvGraphicFramePr>
        <p:xfrm>
          <a:off x="843120" y="2421000"/>
          <a:ext cx="7726320" cy="1257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120" y="2421000"/>
                    <a:ext cx="7726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"/>
          <p:cNvGraphicFramePr/>
          <p:nvPr/>
        </p:nvGraphicFramePr>
        <p:xfrm>
          <a:off x="1689120" y="3897360"/>
          <a:ext cx="4165560" cy="593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89120" y="3897360"/>
                    <a:ext cx="4165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947880" y="4838760"/>
          <a:ext cx="6296040" cy="628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47880" y="4838760"/>
                    <a:ext cx="62960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0"/>
          <p:cNvSpPr/>
          <p:nvPr/>
        </p:nvSpPr>
        <p:spPr>
          <a:xfrm>
            <a:off x="1763640" y="2708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导数判定函数单调性，驻点的概念，求函数的单调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755640" y="836640"/>
          <a:ext cx="7827840" cy="134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836640"/>
                    <a:ext cx="7827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"/>
          <p:cNvPicPr/>
          <p:nvPr/>
        </p:nvPicPr>
        <p:blipFill>
          <a:blip r:embed="rId8"/>
          <a:stretch/>
        </p:blipFill>
        <p:spPr>
          <a:xfrm>
            <a:off x="5003640" y="1952640"/>
            <a:ext cx="3708720" cy="29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30"/>
          <p:cNvGraphicFramePr/>
          <p:nvPr/>
        </p:nvGraphicFramePr>
        <p:xfrm>
          <a:off x="738360" y="2614680"/>
          <a:ext cx="4330440" cy="33210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360" y="2614680"/>
                    <a:ext cx="43304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Object 2"/>
          <p:cNvGraphicFramePr/>
          <p:nvPr/>
        </p:nvGraphicFramePr>
        <p:xfrm>
          <a:off x="971640" y="1268280"/>
          <a:ext cx="7170480" cy="372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268280"/>
                    <a:ext cx="717048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Object 2"/>
          <p:cNvGraphicFramePr/>
          <p:nvPr/>
        </p:nvGraphicFramePr>
        <p:xfrm>
          <a:off x="539640" y="836640"/>
          <a:ext cx="7925040" cy="2840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836640"/>
                    <a:ext cx="792504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755640" y="2781360"/>
          <a:ext cx="7924680" cy="273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781360"/>
                    <a:ext cx="79246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2"/>
          <p:cNvGraphicFramePr/>
          <p:nvPr/>
        </p:nvGraphicFramePr>
        <p:xfrm>
          <a:off x="539640" y="765000"/>
          <a:ext cx="7796160" cy="3235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765000"/>
                    <a:ext cx="7796160" cy="32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8"/>
          <p:cNvGraphicFramePr/>
          <p:nvPr/>
        </p:nvGraphicFramePr>
        <p:xfrm>
          <a:off x="900000" y="3789360"/>
          <a:ext cx="6946920" cy="2743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3789360"/>
                    <a:ext cx="6946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7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Object 2"/>
          <p:cNvGraphicFramePr/>
          <p:nvPr/>
        </p:nvGraphicFramePr>
        <p:xfrm>
          <a:off x="754200" y="833400"/>
          <a:ext cx="7588080" cy="1316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833400"/>
                    <a:ext cx="75880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7"/>
          <p:cNvGraphicFramePr/>
          <p:nvPr/>
        </p:nvGraphicFramePr>
        <p:xfrm>
          <a:off x="754200" y="1203480"/>
          <a:ext cx="7588080" cy="1504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203480"/>
                    <a:ext cx="758808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8"/>
          <p:cNvGraphicFramePr/>
          <p:nvPr/>
        </p:nvGraphicFramePr>
        <p:xfrm>
          <a:off x="754200" y="2422440"/>
          <a:ext cx="7588080" cy="1316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79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4200" y="2422440"/>
                    <a:ext cx="75880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9"/>
          <p:cNvGraphicFramePr/>
          <p:nvPr/>
        </p:nvGraphicFramePr>
        <p:xfrm>
          <a:off x="755640" y="2924280"/>
          <a:ext cx="7507440" cy="3600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81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924280"/>
                    <a:ext cx="750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0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4" name="Object 28"/>
          <p:cNvGraphicFramePr/>
          <p:nvPr/>
        </p:nvGraphicFramePr>
        <p:xfrm>
          <a:off x="833400" y="692280"/>
          <a:ext cx="7412040" cy="14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5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3400" y="692280"/>
                    <a:ext cx="74120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9"/>
          <p:cNvGraphicFramePr/>
          <p:nvPr/>
        </p:nvGraphicFramePr>
        <p:xfrm>
          <a:off x="826920" y="1341360"/>
          <a:ext cx="7380360" cy="230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7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341360"/>
                    <a:ext cx="73803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9"/>
          <p:cNvGraphicFramePr/>
          <p:nvPr/>
        </p:nvGraphicFramePr>
        <p:xfrm>
          <a:off x="611280" y="2924280"/>
          <a:ext cx="7993080" cy="1365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2924280"/>
                    <a:ext cx="79930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8"/>
          <p:cNvGraphicFramePr/>
          <p:nvPr/>
        </p:nvGraphicFramePr>
        <p:xfrm>
          <a:off x="1258920" y="3645000"/>
          <a:ext cx="331308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Object 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645000"/>
                    <a:ext cx="3313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9"/>
          <p:cNvGraphicFramePr/>
          <p:nvPr/>
        </p:nvGraphicFramePr>
        <p:xfrm>
          <a:off x="1332000" y="4292640"/>
          <a:ext cx="345600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4292640"/>
                    <a:ext cx="3456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0"/>
          <p:cNvGraphicFramePr/>
          <p:nvPr/>
        </p:nvGraphicFramePr>
        <p:xfrm>
          <a:off x="611280" y="5084640"/>
          <a:ext cx="781344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5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280" y="5084640"/>
                    <a:ext cx="78134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8" name="Object 2"/>
          <p:cNvGraphicFramePr/>
          <p:nvPr/>
        </p:nvGraphicFramePr>
        <p:xfrm>
          <a:off x="826920" y="981000"/>
          <a:ext cx="786132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861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7"/>
          <p:cNvGraphicFramePr/>
          <p:nvPr/>
        </p:nvGraphicFramePr>
        <p:xfrm>
          <a:off x="684360" y="2708280"/>
          <a:ext cx="7588080" cy="1395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708280"/>
                    <a:ext cx="7588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"/>
          <p:cNvGraphicFramePr/>
          <p:nvPr/>
        </p:nvGraphicFramePr>
        <p:xfrm>
          <a:off x="755640" y="1484280"/>
          <a:ext cx="7861320" cy="1668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1484280"/>
                    <a:ext cx="78613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6" name="Object 2"/>
          <p:cNvGraphicFramePr/>
          <p:nvPr/>
        </p:nvGraphicFramePr>
        <p:xfrm>
          <a:off x="755640" y="692280"/>
          <a:ext cx="7588440" cy="23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5884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20"/>
          <p:cNvSpPr/>
          <p:nvPr/>
        </p:nvSpPr>
        <p:spPr>
          <a:xfrm>
            <a:off x="900000" y="3068640"/>
            <a:ext cx="7223400" cy="91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说明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除了驻点有可能是分界点外，导数不存在的点也可能是分界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7"/>
          <p:cNvGraphicFramePr/>
          <p:nvPr/>
        </p:nvGraphicFramePr>
        <p:xfrm>
          <a:off x="971640" y="4365720"/>
          <a:ext cx="169056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4365720"/>
                    <a:ext cx="1690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8"/>
          <p:cNvGraphicFramePr/>
          <p:nvPr/>
        </p:nvGraphicFramePr>
        <p:xfrm>
          <a:off x="971640" y="4941720"/>
          <a:ext cx="4987800" cy="460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4941720"/>
                    <a:ext cx="49878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9"/>
          <p:cNvGraphicFramePr/>
          <p:nvPr/>
        </p:nvGraphicFramePr>
        <p:xfrm>
          <a:off x="6300720" y="2565360"/>
          <a:ext cx="1900440" cy="34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00720" y="2565360"/>
                    <a:ext cx="19004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508720" y="4149720"/>
          <a:ext cx="2763720" cy="184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08720" y="4149720"/>
                    <a:ext cx="27637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0:08Z</dcterms:modified>
  <cp:revision>76</cp:revision>
  <dc:subject/>
  <dc:title>幻灯片 1</dc:title>
</cp:coreProperties>
</file>